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7D1C-D273-4AFB-9887-D7976138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5336-A27B-4830-816C-CEF3913A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DB4-3EF9-4ABB-95AB-E21842F0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6CD-4637-4105-9A04-2AFA5855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08E4-2A6F-4027-B44A-AAB4BCCB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6BD6-1F5A-4594-81DC-DF19B91C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37F-65F4-4C84-B829-0E1EEBA4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3EA-8BA0-4C3F-B2CE-E9E1A855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285D-11B1-47B0-B139-0E4504BA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852-5C6E-4072-B008-A4618637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EB2-5CCA-425C-9B55-BE697499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575-391C-4207-B1D8-4D1215B2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8DCA-35D4-4EFF-A896-A74044D1DB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nnas2.ucoz.ru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divimenia.ru/tag/udivitelnyie-derevya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otanichka.ru/blog/2010/09/22/baobab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9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4a452a"/>
                </a:solidFill>
                <a:latin typeface="Antikvar"/>
                <a:ea typeface="Arial Unicode MS"/>
              </a:rPr>
              <a:t>Самые необычные и удивительные деревья мира.</a:t>
            </a:r>
            <a:endParaRPr b="0" lang="en-US" sz="59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19280" y="5373720"/>
            <a:ext cx="7337520" cy="13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Широкова Анна Дорофеевн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Учитель биологи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МАОУ СОШ №4 им. И.С. Черных г. Томск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http://annas2.ucoz.ru/</a:t>
            </a: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4" descr="samoe_samoe_derevo_9.jpg"/>
          <p:cNvPicPr/>
          <p:nvPr/>
        </p:nvPicPr>
        <p:blipFill>
          <a:blip r:embed="rId2"/>
          <a:stretch/>
        </p:blipFill>
        <p:spPr>
          <a:xfrm>
            <a:off x="1835280" y="189000"/>
            <a:ext cx="5688000" cy="362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29840" y="3860640"/>
            <a:ext cx="87138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андо — это колония осинообразного тополя , расположенная в штате Юте в США. Все деревья в этой колонии генетически идентичные. На самое интересное в том, что все они являются единым живым организмом с общей корневой системой. Возраст этого уникального растения оценивается учеными в 80 тысяч лет, а его вес около 6 тысяч тонн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4" descr="samoe_samoe_derevo_8-450x600.jpg"/>
          <p:cNvPicPr/>
          <p:nvPr/>
        </p:nvPicPr>
        <p:blipFill>
          <a:blip r:embed="rId2"/>
          <a:stretch/>
        </p:blipFill>
        <p:spPr>
          <a:xfrm>
            <a:off x="1579680" y="189000"/>
            <a:ext cx="6521400" cy="41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4508640"/>
            <a:ext cx="8856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Шен-Шапель является самым известным деревом во Франции. На самом деле, это больше, чем просто дерево: это здание и религиозный памятник. В 1669 году около этого 500 летнего (в то время), пораженного молнией дуба, аббаты решили построить часовню выполнен полым от молнии. 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3671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еликий баньян (Колката, Индия)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м с самой большой в мире площадью кроны является великий баньян, который расположен в индийском ботаническом саду. Баньян получил свое название в честь индийских торговцев, которые вели свою торговлю под раскидистой сенью этих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0" name="Рисунок 6" descr="samoe_samoe_derevo_14-450x325.jpg"/>
          <p:cNvPicPr/>
          <p:nvPr/>
        </p:nvPicPr>
        <p:blipFill>
          <a:blip r:embed="rId2"/>
          <a:stretch/>
        </p:blipFill>
        <p:spPr>
          <a:xfrm>
            <a:off x="4211640" y="692280"/>
            <a:ext cx="4738680" cy="46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4" descr="001rcbkk.jpg"/>
          <p:cNvPicPr/>
          <p:nvPr/>
        </p:nvPicPr>
        <p:blipFill>
          <a:blip r:embed="rId2"/>
          <a:stretch/>
        </p:blipFill>
        <p:spPr>
          <a:xfrm>
            <a:off x="1763640" y="189000"/>
            <a:ext cx="5954760" cy="44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560" y="4723920"/>
            <a:ext cx="8317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Дерево-лес </a:t>
            </a:r>
            <a:br>
              <a:rPr sz="2400"/>
            </a:b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На фото ниже изображён не лес, а одно единственное бразильское дерево Ореха Кешью, которое занимает площадь около 8500 квадратных метров!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001qsw6q.jpg"/>
          <p:cNvPicPr/>
          <p:nvPr/>
        </p:nvPicPr>
        <p:blipFill>
          <a:blip r:embed="rId2"/>
          <a:stretch/>
        </p:blipFill>
        <p:spPr>
          <a:xfrm>
            <a:off x="1692360" y="115920"/>
            <a:ext cx="5759280" cy="399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03280" y="4194000"/>
            <a:ext cx="8640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 жизни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Одно единственное четырёхвековое дерево акации в гордом одиночестве возвышается среди безжизненной пустыни  в заливе Бахрейн,в северо-западной части Персидского залива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4" descr="001rdcqt.jpg"/>
          <p:cNvPicPr/>
          <p:nvPr/>
        </p:nvPicPr>
        <p:blipFill>
          <a:blip r:embed="rId2"/>
          <a:stretch/>
        </p:blipFill>
        <p:spPr>
          <a:xfrm>
            <a:off x="4572000" y="981000"/>
            <a:ext cx="4392720" cy="473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4537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-спрут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елое хлопковое дерево (шерстяное дерево, капок) у ворот храма Та Пром в Ангкор-Тхом, в столице исчезнувшей Кхмерской Империи. Это дерево, подобно спруту, опутывает входы в храм. (Древная столица Камбоджи , государства в Юго-Восточной Азии)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4" descr="phpThumb_generated_thumbnailjpg.jpg"/>
          <p:cNvPicPr/>
          <p:nvPr/>
        </p:nvPicPr>
        <p:blipFill>
          <a:blip r:embed="rId2"/>
          <a:stretch/>
        </p:blipFill>
        <p:spPr>
          <a:xfrm>
            <a:off x="179280" y="189000"/>
            <a:ext cx="3462480" cy="313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60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Bombax ceiba 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омбакс сейба) Семейство: Мальвовые 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Malvaceae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Названия: Красное хлопковое дерево, Шелковое дерево. Австралия, Тропическая Азия.  Его особенность - большие красные цветы. Причем настолько яркие, что можно подумать, что они сделаны из пластмассы. </a:t>
            </a: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9" name="Рисунок 5" descr="phpThumb_generated_thumbnailjpg.jpg"/>
          <p:cNvPicPr/>
          <p:nvPr/>
        </p:nvPicPr>
        <p:blipFill>
          <a:blip r:embed="rId3"/>
          <a:srcRect l="0" t="0" r="56655" b="0"/>
          <a:stretch/>
        </p:blipFill>
        <p:spPr>
          <a:xfrm>
            <a:off x="6014880" y="3357720"/>
            <a:ext cx="312912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Рисунок 7" descr="phpThumb_generated_thumbnailjpg.jpg"/>
          <p:cNvPicPr/>
          <p:nvPr/>
        </p:nvPicPr>
        <p:blipFill>
          <a:blip r:embed="rId4"/>
          <a:srcRect l="43350" t="0" r="0" b="0"/>
          <a:stretch/>
        </p:blipFill>
        <p:spPr>
          <a:xfrm>
            <a:off x="4067280" y="333360"/>
            <a:ext cx="4968720" cy="26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99640" y="475920"/>
            <a:ext cx="381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амым известным деревом в Мексике (город Оахака) является кипарис, который имеет своё собственное имя - "El Arbol del Tule". Длина окружности ствола этого исполина составляет 54 метра, а высота 40 метров. Диаметр кроны 51 метр. Дерево по приблизительным оценкам весит 600 тонн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2" name="Рисунок 5" descr="001r2rew.jpg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568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4" descr="00175d5g.jpg"/>
          <p:cNvPicPr/>
          <p:nvPr/>
        </p:nvPicPr>
        <p:blipFill>
          <a:blip r:embed="rId2"/>
          <a:stretch/>
        </p:blipFill>
        <p:spPr>
          <a:xfrm>
            <a:off x="2268360" y="333360"/>
            <a:ext cx="5759640" cy="33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8560" y="3645000"/>
            <a:ext cx="878508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Фикус Бенгальский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Ficus benghalensis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На первый взгляд может показаться, что на фото выше изображён лес. На самом деле - это одно единственное дерево. Фикус Бенгальский образует мощные ветви для поддержки которых отрастают побеги, которые отпускаясь вниз до земли укореняются, образуя мощные колонны-стволы. </a:t>
            </a:r>
            <a:br>
              <a:rPr sz="2000"/>
            </a:b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4" descr="001r3dp7.jpg"/>
          <p:cNvPicPr/>
          <p:nvPr/>
        </p:nvPicPr>
        <p:blipFill>
          <a:blip r:embed="rId2"/>
          <a:stretch/>
        </p:blipFill>
        <p:spPr>
          <a:xfrm>
            <a:off x="2195640" y="333360"/>
            <a:ext cx="56894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893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оллемия сосновая (Wollemi Pine) - это дерево рода Хвойных, семейства Араукариевых произрастает в Австралии. Одно из самых древних древесных растений ("сверстник динозавров"), которое было широко распространено на Земле в Юрский период. До недавнего времени считалось вымершим ископаемым видом. Очень редкое растение, внесённое в Красную книгу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Какие самые необычные и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удивительные деревья</a:t>
            </a: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 в мире? Где они растут? Сколько живут? Чем они необычны? Оказалось, удивительных деревьев на нашей планете достаточно </a:t>
            </a:r>
            <a:br>
              <a:rPr sz="2800"/>
            </a:b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много.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0" name="Содержимое 3" descr="танцующий лес в Калининградской области.jpg"/>
          <p:cNvPicPr/>
          <p:nvPr/>
        </p:nvPicPr>
        <p:blipFill>
          <a:blip r:embed="rId3"/>
          <a:stretch/>
        </p:blipFill>
        <p:spPr>
          <a:xfrm>
            <a:off x="1835280" y="2421000"/>
            <a:ext cx="6297480" cy="42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189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уйя Раймонда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Puya raimondii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Пуйя Раймонда семейства Бромелиевых произрастающее в Боливийских и Перуанских Андах имеет самое большое соцветие диаметром 2,5 метра и высотой около 12 метров, состоящее из приблизительно 10000 простых цветков. Очень жаль, что цветёт это удивительное растение только при достижении 150-летнего возраста, а затем погибает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8" name="Рисунок 4" descr="00179fpk.jpg"/>
          <p:cNvPicPr/>
          <p:nvPr/>
        </p:nvPicPr>
        <p:blipFill>
          <a:blip r:embed="rId2"/>
          <a:stretch/>
        </p:blipFill>
        <p:spPr>
          <a:xfrm>
            <a:off x="5051520" y="692280"/>
            <a:ext cx="3714480" cy="554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29840" y="3428640"/>
            <a:ext cx="87138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Book Antiqua"/>
              </a:rPr>
              <a:t>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Курупита гвианская) принадлежит к семейству Летицисовых. Растёт в тропических областях Южной Америки«Пушечное дерево» растает в основном в северной части Южной Америки и на Карибах часто сопровождается табличкой с предупреждением: «Берегитесь падающих ядер». Фрукты начинают падать после созревания, и так как каждый из них достигает 25 сантиметров в диаметре, они запросто могут убить человека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0" name="Рисунок 4" descr="1.jpg"/>
          <p:cNvPicPr/>
          <p:nvPr/>
        </p:nvPicPr>
        <p:blipFill>
          <a:blip r:embed="rId2"/>
          <a:stretch/>
        </p:blipFill>
        <p:spPr>
          <a:xfrm>
            <a:off x="1619280" y="189000"/>
            <a:ext cx="6661080" cy="315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1388565.jpg"/>
          <p:cNvPicPr/>
          <p:nvPr/>
        </p:nvPicPr>
        <p:blipFill>
          <a:blip r:embed="rId2"/>
          <a:stretch/>
        </p:blipFill>
        <p:spPr>
          <a:xfrm>
            <a:off x="1403280" y="189000"/>
            <a:ext cx="67690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58560" y="4365720"/>
            <a:ext cx="7705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Book Antiqua"/>
              </a:rPr>
              <a:t>НО, одно из самых необыкновенных деревьев – берёза. Береза – радостное, нарядное дерево. Само название произошло от старослявянского «брезньнъ», что означало «апрель»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258560" y="404640"/>
            <a:ext cx="75610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Наши далекие предки ласково называли ее «веселкой». В древних языческих обрядах </a:t>
            </a:r>
            <a:r>
              <a:rPr b="1" lang="en-US" sz="2400" spc="-1" strike="noStrike">
                <a:solidFill>
                  <a:srgbClr val="006600"/>
                </a:solidFill>
                <a:latin typeface="Book Antiqua"/>
              </a:rPr>
              <a:t>береза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была «майским древом» – праздничным деревом, связанным с зелеными святками. На этот весенний праздник, посвящаемый плодородию и будущему урожаю,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березу украшали разноцветным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лентами, заплетали косы из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тонких, плакучих ветвей, водил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вокруг нее хороводы. Сейчас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этот обычай слился с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празднованием Троицы,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который обычно бывает в июне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4" name="Рисунок 3" descr="4062092_f15a941f.jpg"/>
          <p:cNvPicPr/>
          <p:nvPr/>
        </p:nvPicPr>
        <p:blipFill>
          <a:blip r:embed="rId2"/>
          <a:stretch/>
        </p:blipFill>
        <p:spPr>
          <a:xfrm>
            <a:off x="6372360" y="2924280"/>
            <a:ext cx="2487600" cy="36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1052640"/>
          <a:ext cx="8532720" cy="5472000"/>
        </p:xfrm>
        <a:graphic>
          <a:graphicData uri="http://schemas.openxmlformats.org/drawingml/2006/table">
            <a:tbl>
              <a:tblPr/>
              <a:tblGrid>
                <a:gridCol w="2413080"/>
                <a:gridCol w="2584440"/>
                <a:gridCol w="3535200"/>
              </a:tblGrid>
              <a:tr h="605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53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стар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Невада, в горах на высоте 3275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900 л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83 м, окружность 24,11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высок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110,33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1887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толст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ици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кружность пяти сросшихся стволов в 1875 году 64,2 м, возраст 3600—4000 лет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876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ыстрорастуще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сточная и Южная Аз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 0,75 м в сут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58920" y="692280"/>
          <a:ext cx="8389800" cy="5329080"/>
        </p:xfrm>
        <a:graphic>
          <a:graphicData uri="http://schemas.openxmlformats.org/drawingml/2006/table">
            <a:tbl>
              <a:tblPr/>
              <a:tblGrid>
                <a:gridCol w="2373120"/>
                <a:gridCol w="2540160"/>
                <a:gridCol w="3476520"/>
              </a:tblGrid>
              <a:tr h="6523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водн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Южная Амер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змеры: листа 1,2—2 м, цветка 30-40 с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цвета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мат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цветка 90 см, вес цветка 7 к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4810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соцветия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оли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соцветия 2,4 м, высота соцветия 10,7 м, в соцветии до 8000 цвет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маленькое цветков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доемы умеренного пояса и тропи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,5—1,2 м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Используемые источники.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58560" y="105264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Шаблон презентации найден в интернете. Буду благодарна -за предоставление сведений об авторе шаблона.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udivimenia.ru/priroda/udivitelnyie-derevya/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Автор: </a:t>
            </a:r>
            <a:r>
              <a:rPr b="1" lang="ru-RU" sz="1800" spc="-1" strike="noStrike">
                <a:solidFill>
                  <a:srgbClr val="604a7b"/>
                </a:solidFill>
                <a:latin typeface="Book Antiqua"/>
              </a:rPr>
              <a:t>mrwallero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604a7b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4a7b"/>
                </a:solidFill>
                <a:latin typeface="Book Antiqua"/>
              </a:rPr>
              <a:t>http://lifestripes.ru/world/udivitelnye-derevja-mira.html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priroda.su/item/1299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odkofeek.ru/capuchino/571-samie-strannie-i-udivitelnie-derevya.html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vsetabl.ru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nnm.ru/blogs/horror1017/russkaya_berezka/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images.yandex.ru/yandsearch?text=%D0%B1%D0%B5%D1%80%D0%B5%D0%B7%D0%B0&amp;noreask=1&amp;pos=11&amp;rpt=simage&amp;lr=67&amp;img_url=http%3A%2F%2Fs.imhonet.ru%2Fuser_files%2F16%2F9f%2F169fef04a13aeb6be3cd6f42b63b7645%2Fimages%2F20_02_11%2F20_03_2011%2F12.jpg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agan.ru/slowar/b/bereza0.php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botanichka.ru/blog/2010/09/22/baobab/</a:t>
            </a: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220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Баобаб</a:t>
            </a:r>
            <a:r>
              <a:rPr b="0" lang="en-US" sz="2400" spc="-1" strike="noStrike" u="sng">
                <a:solidFill>
                  <a:srgbClr val="10253f"/>
                </a:solidFill>
                <a:uFillTx/>
                <a:latin typeface="Book Antiqua"/>
              </a:rPr>
              <a:t> из семейства Мальвовых – одно из самых</a:t>
            </a:r>
            <a:r>
              <a:rPr b="1" i="1" lang="en-US" sz="2400" spc="-1" strike="noStrike">
                <a:solidFill>
                  <a:srgbClr val="10253f"/>
                </a:solidFill>
                <a:latin typeface="Book Antiqua"/>
              </a:rPr>
              <a:t> удивительных деревьев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. Диаметр Баобаба может достигать более десяти метров – что является рекордом среди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2" name="Рисунок 4" descr="баобаб.jpg"/>
          <p:cNvPicPr/>
          <p:nvPr/>
        </p:nvPicPr>
        <p:blipFill>
          <a:blip r:embed="rId3"/>
          <a:stretch/>
        </p:blipFill>
        <p:spPr>
          <a:xfrm>
            <a:off x="1403280" y="189000"/>
            <a:ext cx="6624720" cy="414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9816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Высота дерева может достигать 30 метров. Так как годовалых колец также, точный возраст деревьев установить трудно. Считается что их возраст не менее тысячи лет. Дерево очень живучее, если содрать с него кору – нарастет новая, если дерево упадет на землю и хоть один корень находится в земле – дерево будет продолжает жить и расти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4" name="Содержимое 3" descr="баобаб2.jpg"/>
          <p:cNvPicPr/>
          <p:nvPr/>
        </p:nvPicPr>
        <p:blipFill>
          <a:blip r:embed="rId2"/>
          <a:stretch/>
        </p:blipFill>
        <p:spPr>
          <a:xfrm>
            <a:off x="4572000" y="549360"/>
            <a:ext cx="4284720" cy="525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баоаб3.jpg"/>
          <p:cNvPicPr/>
          <p:nvPr/>
        </p:nvPicPr>
        <p:blipFill>
          <a:blip r:embed="rId2"/>
          <a:stretch/>
        </p:blipFill>
        <p:spPr>
          <a:xfrm>
            <a:off x="2268360" y="260280"/>
            <a:ext cx="5213520" cy="314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3428640"/>
            <a:ext cx="89647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Растет это удивительное дерево в Африке, в Австралии, а также на тропических островах. В сезон дождей древесина Баобаба впитывает в себя воду как губка. В засушливый период, дерево расходует накопленную воду и сбрасывает с себя всю листву. Местное население вовсю использует Баобабы – делают временные жилища, кладовые, резервуары для запасов воды. Из самых больших устраивают такие заведения как тюрьма, баня, ресторан, автобусная станция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секвойя.jpg"/>
          <p:cNvPicPr/>
          <p:nvPr/>
        </p:nvPicPr>
        <p:blipFill>
          <a:blip r:embed="rId2"/>
          <a:stretch/>
        </p:blipFill>
        <p:spPr>
          <a:xfrm>
            <a:off x="4788000" y="333360"/>
            <a:ext cx="3925800" cy="561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475128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Секвойя – вечнозеленое растение, которое любит влажность, кора дерева впитывает ее как губка. Кора достаточно толстая, до тридцати см, красно-коричневого цвета. Древесина дерева ценится своими свойствами – она легка, пориста, не гниет, легко обрабатывается.  Растет Секвойя в Калифорнии и в канадской провинции Британская Колумбия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0" descr="samoe_samoe_derevo_5-450x333.jpg"/>
          <p:cNvPicPr/>
          <p:nvPr/>
        </p:nvPicPr>
        <p:blipFill>
          <a:blip r:embed="rId2"/>
          <a:stretch/>
        </p:blipFill>
        <p:spPr>
          <a:xfrm>
            <a:off x="2124000" y="115920"/>
            <a:ext cx="513864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9840" y="3357360"/>
            <a:ext cx="871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Гигантские секвойи  являются крупнейшими по объему деревьями в мире. Самое большое из них  имеет высоту 84 метра, более 1486 кубических метров объема и более 6000 тонн в весе. Дереву около 2200 лет и оно продолжает расти.  Самое высокое дерево названное Гиперион ,  его высота составляет 115 м.  Помимо этих выдающихся деревьев, в Калифорнии  есть также 4 секвойи, сквозь которые проделаны тоннели для проезда автомобилей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8560" y="3976560"/>
            <a:ext cx="8785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раконовое дерево из семейства Иглицевыех.  Размеры дерева не велики – в высоту до 20 метров, диаметр до 4 метров. Возраст дерева может достигать несколько тысяч лет, точнее определить не возможно, у дерева так же нет годичных колец. Ствол дерева причудливо ветвится, каждая ветвь заканчивается пучком длинных и узких листьев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32" name="Рисунок 6" descr="драконовое дерево.jpg"/>
          <p:cNvPicPr/>
          <p:nvPr/>
        </p:nvPicPr>
        <p:blipFill>
          <a:blip r:embed="rId2"/>
          <a:stretch/>
        </p:blipFill>
        <p:spPr>
          <a:xfrm>
            <a:off x="2195640" y="189000"/>
            <a:ext cx="4983120" cy="37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4" descr="драконовое2.jpg"/>
          <p:cNvPicPr/>
          <p:nvPr/>
        </p:nvPicPr>
        <p:blipFill>
          <a:blip r:embed="rId2"/>
          <a:stretch/>
        </p:blipFill>
        <p:spPr>
          <a:xfrm>
            <a:off x="1255680" y="-6480"/>
            <a:ext cx="6566040" cy="4486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4292640"/>
            <a:ext cx="8785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мола дерева – красного цвета, она еще с древних времен применялась в лечебных целях. Местные жители считали Драконовые деревья священными, нередко они устраивали в их больших дуплах алтари. Эти удивительные деревья растут в Африке и Юго – Восточной Азии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5:56:34Z</dcterms:created>
  <dc:creator>Лена</dc:creator>
  <dc:description/>
  <dc:language>en-US</dc:language>
  <cp:lastModifiedBy>Мама</cp:lastModifiedBy>
  <dcterms:modified xsi:type="dcterms:W3CDTF">2013-01-13T06:47:53Z</dcterms:modified>
  <cp:revision>16</cp:revision>
  <dc:subject/>
  <dc:title>Слайд 1</dc:title>
</cp:coreProperties>
</file>